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DF1-47FE-46B8-AB91-D0CB85B9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E07-1290-47AE-93A4-065AA580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4AE-48CD-4BBA-A203-68392B6F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675-15B5-4861-B043-2047E858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75C-5B8A-4772-BD75-7A0C2460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3DA2-86C9-4239-BD89-94B12D5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B140-080B-4ECF-9959-3F65041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48D-9C64-4C42-91DB-5CD226D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B66B-EAE0-4C76-8799-2B877D78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13E-B15E-4030-BA27-0E418054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3BBB-91C1-45EE-ACFA-583D131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110-2BD7-4EF4-9CC0-0AA688C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9AD9-37F4-4045-B1CA-DB6C6CD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FE9D-37BC-4694-9FC7-8BC6EB14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0AD6-F44E-47E3-94A2-16E123C5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70C-0D82-4F9C-A25B-33CE0B33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3274-1FE5-438E-8946-AC626281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DE51-9874-400F-ACD1-9F76867F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AA20-799C-4B14-A624-FC1D88D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D02D-B03A-4FB6-A202-D9C37B23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9994-5919-4D85-8F02-9D0ED8ED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5044-1B2D-41AC-8475-F751B71E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36B-DB0A-4833-91CD-D150460C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6312-F27B-4A3D-B18F-89122F0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FB15F-45D3-4C2B-A857-49D08E3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DEAB-B14C-471A-8B91-9D2B67E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6C1E-4130-4262-8381-ED9B3F5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6E56-7D6D-4120-A329-CB871AD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DF4B-DD7C-47D3-B513-85377521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378E-5E80-482D-926B-EF4EB4C7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86D5-FF44-4CD7-980F-F53C3B1D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1920-F471-41F0-9490-B4952F0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F25C-A17A-49B5-9177-F4A02E78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02D-41CD-4B72-A262-25672FA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7962-D9F5-4EA9-BD80-41C774B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604C-E773-464B-98BB-DFCD778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AE68-AB75-4C7C-B110-8764290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E587-1C28-462D-B5C7-110C463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D728-AB0C-4CF0-940D-60793A6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1FE1-E82D-4EE6-A41C-12F7996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7FB0-7BB1-4B6B-A846-2D863C3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1335-5F03-4527-827F-E048E295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DF77-31E2-444E-8FEA-29274B31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2F053-A23C-479B-BF15-A6C455E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673-AA4F-4522-BF51-D06060CD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5238-C3DD-4562-A818-DA196AB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0D560-EDCF-4385-9EB5-FD639D6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D1D1-40EC-420D-AA22-66A64B9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5ECC-429D-47E7-AEE4-07CD3A8E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25E1-72B1-4D6B-A96E-CED58D81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24CD-B605-4C70-804C-4F5CD28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06A4-B136-47EC-B8D8-2A50F2A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3907-D163-4DE6-8801-5C50ABF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106F-067F-4C7F-9F9A-8794B55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5D40D-38D0-4DDC-9C55-971A8A57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F88-BA26-466D-BA03-90C1E7A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49B5-FC71-48B4-9C0A-9958ADC6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0B95-FCC5-46FA-8667-18BDF1D0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DF37-DDCC-41E6-9302-2A4C1874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80CC-D414-4DC2-9EC1-A2A6A525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4507-60DC-4CB8-95F4-C06CEFBC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E8129-974F-4664-B032-3B6C7CF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68E9-F759-4DAD-8994-2E3A0C2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041B-CA69-4C5E-8E62-0557C90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B17E-5627-49AC-9AF9-14E5F1A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7CE7-B13F-4A49-B2C4-BAC38F6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329-FE12-43C8-9CE0-215FEC4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6BAD-A3BC-4349-96E4-F00F0020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E7F2C-0CCB-41B8-B812-8E09F389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6C76-384B-433A-AA27-6BBAE6B7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FBD8-89AA-4C76-B015-39F0FB0C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D400-AF81-488C-B179-494D628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28D9-CFDD-42E4-BBA2-BDA97991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F6DD-3996-44E4-9CC9-B2F45B7D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A5F1-B879-4BEB-88E1-C6174A81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6AB4-2768-4C2D-97AD-134D5E8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7DD6-B554-40C5-A8AC-AADFEFF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D47-DFE4-4FCA-A18B-B3E6C208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A182-1C38-4974-A590-714AE92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096A0-6E7E-4F23-8206-B744A37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B708-735E-4CE8-A471-8152B44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1C82-9695-4D84-AFCA-B844A1DC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F561-770A-40B5-A442-AEAF877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995-1F5A-4FD9-8239-2F9C6E5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2C3-3F34-4FB4-AD2C-E8272F7CD28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4ACA-7070-41DF-B1E1-8F02F35DD6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F96-915A-4E4E-816D-1F285E43F45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C8A-FC4B-4BE7-BD31-06B9580934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C92-1559-4FF6-B588-00F6CC1A72B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FB4C-5BBD-4841-80FC-4EEC2FF9B3E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084-81DA-4040-8F70-05C67317CB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Octoberia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Content Placeholder 3" descr="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3" descr="COMMUNITI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COMMUNITITES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Content Placeholder 3" descr="CLASSROOM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CLASSROOM5.jpg"/>
          <p:cNvPicPr/>
          <p:nvPr/>
        </p:nvPicPr>
        <p:blipFill>
          <a:blip r:embed="rId1"/>
          <a:stretch/>
        </p:blipFill>
        <p:spPr>
          <a:xfrm>
            <a:off x="0" y="0"/>
            <a:ext cx="6730920" cy="4203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LASSROOM4.jpg"/>
          <p:cNvPicPr/>
          <p:nvPr/>
        </p:nvPicPr>
        <p:blipFill>
          <a:blip r:embed="rId2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LASSROOM1.jpg"/>
          <p:cNvPicPr/>
          <p:nvPr/>
        </p:nvPicPr>
        <p:blipFill>
          <a:blip r:embed="rId3"/>
          <a:stretch/>
        </p:blipFill>
        <p:spPr>
          <a:xfrm>
            <a:off x="0" y="3357720"/>
            <a:ext cx="5715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ORKPL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WORKPLACE2.jpg"/>
          <p:cNvPicPr/>
          <p:nvPr/>
        </p:nvPicPr>
        <p:blipFill>
          <a:blip r:embed="rId1"/>
          <a:stretch/>
        </p:blipFill>
        <p:spPr>
          <a:xfrm>
            <a:off x="4572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WORKPLACE1.jpg"/>
          <p:cNvPicPr/>
          <p:nvPr/>
        </p:nvPicPr>
        <p:blipFill>
          <a:blip r:embed="rId1"/>
          <a:stretch/>
        </p:blipFill>
        <p:spPr>
          <a:xfrm>
            <a:off x="349200" y="1523880"/>
            <a:ext cx="8791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HOME4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5:03:16Z</dcterms:created>
  <dc:creator>Imperialdramon</dc:creator>
  <dc:description/>
  <dc:language>en-US</dc:language>
  <cp:lastModifiedBy>user</cp:lastModifiedBy>
  <dcterms:modified xsi:type="dcterms:W3CDTF">2012-07-12T09:47:14Z</dcterms:modified>
  <cp:revision>2</cp:revision>
  <dc:subject/>
  <dc:title>Dehumanization</dc:title>
</cp:coreProperties>
</file>